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24.png" ContentType="image/pn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3AE-5B58-46C8-9962-8187D27F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F3A-D7AF-403A-A9DA-BFF2207E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CA1-619E-41A4-84C7-BB612F5E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1B7-4606-4B1C-B3D8-046EB445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0A5-4867-49AB-9130-591AD0E8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D61-A2BF-49B3-A6F4-4758A0A0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F4D-3F34-4C4F-8CEF-FCED9301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3EB-990E-4AFF-8FAD-0140FF98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E00-0A22-47B4-9F8B-7F8777F8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65A-0454-4C38-B513-62605C15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36E-71A5-42A1-AF1C-0CBB70F8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071-1AE7-41ED-A9F7-779C3986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F650-9D01-441E-A9A9-494E362EE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图片1 拷贝"/>
          <p:cNvPicPr/>
          <p:nvPr/>
        </p:nvPicPr>
        <p:blipFill>
          <a:blip r:embed="rId2"/>
          <a:stretch/>
        </p:blipFill>
        <p:spPr>
          <a:xfrm>
            <a:off x="179280" y="5013360"/>
            <a:ext cx="8713800" cy="15112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0"/>
          <p:cNvGrpSpPr/>
          <p:nvPr/>
        </p:nvGrpSpPr>
        <p:grpSpPr>
          <a:xfrm>
            <a:off x="0" y="907920"/>
            <a:ext cx="2211840" cy="2664000"/>
            <a:chOff x="0" y="907920"/>
            <a:chExt cx="2211840" cy="2664000"/>
          </a:xfrm>
        </p:grpSpPr>
        <p:pic>
          <p:nvPicPr>
            <p:cNvPr id="44" name="Picture 8" descr="xxyw2bp69"/>
            <p:cNvPicPr/>
            <p:nvPr/>
          </p:nvPicPr>
          <p:blipFill>
            <a:blip r:embed="rId3"/>
            <a:srcRect l="6230" t="42867" r="68862" b="39374"/>
            <a:stretch/>
          </p:blipFill>
          <p:spPr>
            <a:xfrm>
              <a:off x="0" y="907920"/>
              <a:ext cx="21366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9"/>
            <p:cNvSpPr/>
            <p:nvPr/>
          </p:nvSpPr>
          <p:spPr>
            <a:xfrm rot="441600">
              <a:off x="1282320" y="2058840"/>
              <a:ext cx="863640" cy="10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11"/>
          <p:cNvSpPr/>
          <p:nvPr/>
        </p:nvSpPr>
        <p:spPr>
          <a:xfrm>
            <a:off x="2700360" y="2205000"/>
            <a:ext cx="55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生在树上，落在肩上， 干活躺下，休息靠墙。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952720" y="105264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猜一猜这是什么东西</a:t>
            </a:r>
            <a:r>
              <a:rPr b="0" lang="en-US" sz="3600" spc="-1" strike="noStrike">
                <a:solidFill>
                  <a:srgbClr val="6600cc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sdx07"/>
          <p:cNvPicPr/>
          <p:nvPr/>
        </p:nvPicPr>
        <p:blipFill>
          <a:blip r:embed="rId4"/>
          <a:stretch/>
        </p:blipFill>
        <p:spPr>
          <a:xfrm>
            <a:off x="2268360" y="1700280"/>
            <a:ext cx="6553440" cy="150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图片4"/>
          <p:cNvPicPr/>
          <p:nvPr/>
        </p:nvPicPr>
        <p:blipFill>
          <a:blip r:embed="rId5"/>
          <a:stretch/>
        </p:blipFill>
        <p:spPr>
          <a:xfrm>
            <a:off x="6588000" y="4005360"/>
            <a:ext cx="1217880" cy="1209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sdx07"/>
          <p:cNvPicPr/>
          <p:nvPr/>
        </p:nvPicPr>
        <p:blipFill>
          <a:blip r:embed="rId3"/>
          <a:stretch/>
        </p:blipFill>
        <p:spPr>
          <a:xfrm>
            <a:off x="1979640" y="1628640"/>
            <a:ext cx="6553080" cy="15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井冈山会师2"/>
          <p:cNvPicPr/>
          <p:nvPr/>
        </p:nvPicPr>
        <p:blipFill>
          <a:blip r:embed="rId4"/>
          <a:stretch/>
        </p:blipFill>
        <p:spPr>
          <a:xfrm>
            <a:off x="3780000" y="2060640"/>
            <a:ext cx="4286160" cy="352404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37" name="Text Box 6"/>
          <p:cNvSpPr/>
          <p:nvPr/>
        </p:nvSpPr>
        <p:spPr>
          <a:xfrm>
            <a:off x="539640" y="2421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井冈山会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395280" y="263700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39640" y="3284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井冈山会师纪念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395280" y="3500280"/>
            <a:ext cx="144360" cy="144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19d98d392ce3c700b9998fae"/>
          <p:cNvPicPr/>
          <p:nvPr/>
        </p:nvPicPr>
        <p:blipFill>
          <a:blip r:embed="rId5"/>
          <a:stretch/>
        </p:blipFill>
        <p:spPr>
          <a:xfrm>
            <a:off x="3780000" y="2060640"/>
            <a:ext cx="4309920" cy="3529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0" y="260280"/>
            <a:ext cx="8785080" cy="568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sdx07"/>
          <p:cNvPicPr/>
          <p:nvPr/>
        </p:nvPicPr>
        <p:blipFill>
          <a:blip r:embed="rId3"/>
          <a:stretch/>
        </p:blipFill>
        <p:spPr>
          <a:xfrm>
            <a:off x="1979640" y="1125360"/>
            <a:ext cx="6553080" cy="1508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5"/>
          <p:cNvGrpSpPr/>
          <p:nvPr/>
        </p:nvGrpSpPr>
        <p:grpSpPr>
          <a:xfrm>
            <a:off x="395280" y="1700280"/>
            <a:ext cx="1871640" cy="1584360"/>
            <a:chOff x="395280" y="1700280"/>
            <a:chExt cx="1871640" cy="1584360"/>
          </a:xfrm>
        </p:grpSpPr>
        <p:pic>
          <p:nvPicPr>
            <p:cNvPr id="146" name="Picture 6" descr="pic_27068402"/>
            <p:cNvPicPr/>
            <p:nvPr/>
          </p:nvPicPr>
          <p:blipFill>
            <a:blip r:embed="rId4"/>
            <a:stretch/>
          </p:blipFill>
          <p:spPr>
            <a:xfrm>
              <a:off x="395280" y="1700280"/>
              <a:ext cx="18716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7"/>
            <p:cNvSpPr/>
            <p:nvPr/>
          </p:nvSpPr>
          <p:spPr>
            <a:xfrm>
              <a:off x="449280" y="2719080"/>
              <a:ext cx="1549800" cy="425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考考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8"/>
          <p:cNvSpPr/>
          <p:nvPr/>
        </p:nvSpPr>
        <p:spPr>
          <a:xfrm>
            <a:off x="2124000" y="1557360"/>
            <a:ext cx="70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小组合作学习，想一想以下的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411280" y="2349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朱德用这根扁担干什么用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411280" y="356868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为什么需要挑粮上山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780000" y="2924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楷体_GB2312"/>
              </a:rPr>
              <a:t>挑粮上山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3564000" y="3211560"/>
            <a:ext cx="144360" cy="144360"/>
          </a:xfrm>
          <a:prstGeom prst="flowChartExtra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826920" y="4292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因为井冈山生产的粮食不多，不够山上的战士吃。如果粮食不够吃，战士们就会饿肚子。战士们吃不饱，就没力气打仗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1258920" y="4508640"/>
            <a:ext cx="144360" cy="144360"/>
          </a:xfrm>
          <a:prstGeom prst="flowChartExtra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095_jpg 拷贝"/>
          <p:cNvPicPr/>
          <p:nvPr/>
        </p:nvPicPr>
        <p:blipFill>
          <a:blip r:embed="rId3"/>
          <a:srcRect l="8337" t="50010" r="0" b="0"/>
          <a:stretch/>
        </p:blipFill>
        <p:spPr>
          <a:xfrm>
            <a:off x="755640" y="1916280"/>
            <a:ext cx="4967280" cy="38257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58" name="Text Box 5"/>
          <p:cNvSpPr/>
          <p:nvPr/>
        </p:nvSpPr>
        <p:spPr>
          <a:xfrm>
            <a:off x="755640" y="98100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中宋"/>
              </a:rPr>
              <a:t>你瞧，朱德正挑着担子从远处走来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sdx07"/>
          <p:cNvPicPr/>
          <p:nvPr/>
        </p:nvPicPr>
        <p:blipFill>
          <a:blip r:embed="rId4"/>
          <a:stretch/>
        </p:blipFill>
        <p:spPr>
          <a:xfrm>
            <a:off x="826920" y="1628640"/>
            <a:ext cx="7561440" cy="174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5940360" y="2492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黑体"/>
              </a:rPr>
              <a:t>说说你看到的朱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095_jpg 拷贝"/>
          <p:cNvPicPr/>
          <p:nvPr/>
        </p:nvPicPr>
        <p:blipFill>
          <a:blip r:embed="rId3"/>
          <a:srcRect l="8337" t="50010" r="0" b="0"/>
          <a:stretch/>
        </p:blipFill>
        <p:spPr>
          <a:xfrm>
            <a:off x="324000" y="1197000"/>
            <a:ext cx="4174920" cy="3600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64" name="Text Box 8"/>
          <p:cNvSpPr/>
          <p:nvPr/>
        </p:nvSpPr>
        <p:spPr>
          <a:xfrm>
            <a:off x="4716360" y="126828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穿着草鞋，戴着斗笠，挑着满满的一担粮食，跟大家一块儿爬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332000" y="49417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读一读，从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满满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这个词中，你体会到了什么？</a:t>
            </a:r>
            <a:r>
              <a:rPr b="0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8244000" y="2349360"/>
            <a:ext cx="14436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5003640" y="2924280"/>
            <a:ext cx="14472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sdx07"/>
          <p:cNvPicPr/>
          <p:nvPr/>
        </p:nvPicPr>
        <p:blipFill>
          <a:blip r:embed="rId3"/>
          <a:stretch/>
        </p:blipFill>
        <p:spPr>
          <a:xfrm>
            <a:off x="1979640" y="1125360"/>
            <a:ext cx="6553080" cy="150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755640" y="141300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既然挑粮上山这么重要，为什么战士们还要把朱德的扁担藏起来呢？好好读读课文，想一想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84360" y="2997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因为朱德同志工作很忙，还要挑粮上山，太累了。大家想，把扁担藏起来，朱德就不用挑了，这样就可以让他轻松点。如果朱德不挑粮，可以更加专心研究国家大事。战士们希望朱德不要过度疲劳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xxyw2ap46"/>
          <p:cNvPicPr/>
          <p:nvPr/>
        </p:nvPicPr>
        <p:blipFill>
          <a:blip r:embed="rId4"/>
          <a:srcRect l="66053" t="69162" r="0" b="10829"/>
          <a:stretch/>
        </p:blipFill>
        <p:spPr>
          <a:xfrm>
            <a:off x="7524720" y="1844640"/>
            <a:ext cx="2281320" cy="2075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0" y="836640"/>
            <a:ext cx="8785080" cy="568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sdx07"/>
          <p:cNvPicPr/>
          <p:nvPr/>
        </p:nvPicPr>
        <p:blipFill>
          <a:blip r:embed="rId3"/>
          <a:stretch/>
        </p:blipFill>
        <p:spPr>
          <a:xfrm>
            <a:off x="1979640" y="1628640"/>
            <a:ext cx="6553080" cy="1508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826920" y="19890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华文中宋"/>
              </a:rPr>
              <a:t>挑粮上山到底累在哪里？读读课文第二自然段，找一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4140360" y="907920"/>
            <a:ext cx="172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找一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55640" y="3068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从井冈山到毛坪，来回有五六十里路，山高路陡，十分难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2411280" y="4221000"/>
            <a:ext cx="14292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9"/>
          <p:cNvSpPr/>
          <p:nvPr/>
        </p:nvSpPr>
        <p:spPr>
          <a:xfrm>
            <a:off x="2916360" y="4221000"/>
            <a:ext cx="14292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3348000" y="4221000"/>
            <a:ext cx="14292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1"/>
          <p:cNvSpPr/>
          <p:nvPr/>
        </p:nvSpPr>
        <p:spPr>
          <a:xfrm>
            <a:off x="3780000" y="4221000"/>
            <a:ext cx="14256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1619280" y="494172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如何理解“山高路陡”这个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3" descr="xxyw2ap46"/>
          <p:cNvPicPr/>
          <p:nvPr/>
        </p:nvPicPr>
        <p:blipFill>
          <a:blip r:embed="rId4"/>
          <a:srcRect l="10598" t="7299" r="70948" b="72686"/>
          <a:stretch/>
        </p:blipFill>
        <p:spPr>
          <a:xfrm>
            <a:off x="611280" y="4076640"/>
            <a:ext cx="1052280" cy="16574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4"/>
          <p:cNvSpPr/>
          <p:nvPr/>
        </p:nvSpPr>
        <p:spPr>
          <a:xfrm>
            <a:off x="5148360" y="5516640"/>
            <a:ext cx="3024000" cy="1081080"/>
          </a:xfrm>
          <a:prstGeom prst="cloudCallout">
            <a:avLst>
              <a:gd name="adj1" fmla="val -153935"/>
              <a:gd name="adj2" fmla="val -27384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感情地读读这段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sdx07"/>
          <p:cNvPicPr/>
          <p:nvPr/>
        </p:nvPicPr>
        <p:blipFill>
          <a:blip r:embed="rId3"/>
          <a:stretch/>
        </p:blipFill>
        <p:spPr>
          <a:xfrm>
            <a:off x="1979640" y="1628640"/>
            <a:ext cx="6553080" cy="1508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468360" y="19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是呀，这些就是战士们藏扁担的原因所在。一个“藏”字，让你体会到了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xxyw2ap56"/>
          <p:cNvPicPr/>
          <p:nvPr/>
        </p:nvPicPr>
        <p:blipFill>
          <a:blip r:embed="rId4"/>
          <a:srcRect l="13126" t="5418" r="60623" b="78334"/>
          <a:stretch/>
        </p:blipFill>
        <p:spPr>
          <a:xfrm>
            <a:off x="-684360" y="-674640"/>
            <a:ext cx="3024360" cy="2808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1187280" y="2997360"/>
            <a:ext cx="67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从“藏”字，我体会到战士们非常关心朱德军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1189080" y="4221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从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藏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字，我也知道大家非常敬爱朱德。这种体贴和关心，其实也是一种爱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xxyw2bp70"/>
          <p:cNvPicPr/>
          <p:nvPr/>
        </p:nvPicPr>
        <p:blipFill>
          <a:blip r:embed="rId5"/>
          <a:srcRect l="0" t="40466" r="78142" b="43021"/>
          <a:stretch/>
        </p:blipFill>
        <p:spPr>
          <a:xfrm>
            <a:off x="179280" y="2924280"/>
            <a:ext cx="1549440" cy="1082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xxyw2bp71"/>
          <p:cNvPicPr/>
          <p:nvPr/>
        </p:nvPicPr>
        <p:blipFill>
          <a:blip r:embed="rId6"/>
          <a:srcRect l="75265" t="58295" r="4683" b="29563"/>
          <a:stretch/>
        </p:blipFill>
        <p:spPr>
          <a:xfrm>
            <a:off x="7667640" y="3284640"/>
            <a:ext cx="1800360" cy="1199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sdx07"/>
          <p:cNvPicPr/>
          <p:nvPr/>
        </p:nvPicPr>
        <p:blipFill>
          <a:blip r:embed="rId3"/>
          <a:stretch/>
        </p:blipFill>
        <p:spPr>
          <a:xfrm>
            <a:off x="1979640" y="1628640"/>
            <a:ext cx="6553080" cy="1508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755640" y="1916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战士们这种“情”有没有实现呢？从哪里看得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908000" y="313704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战士们的这种“情”没有实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755640" y="3822840"/>
            <a:ext cx="770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不料朱德同志又找来一根扁担，还让人写上‘朱德扁担，不准乱拿’八个字。”从这句话就可以看出，战士们的“情”没有实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人物0001"/>
          <p:cNvPicPr/>
          <p:nvPr/>
        </p:nvPicPr>
        <p:blipFill>
          <a:blip r:embed="rId4"/>
          <a:stretch/>
        </p:blipFill>
        <p:spPr>
          <a:xfrm>
            <a:off x="0" y="2997360"/>
            <a:ext cx="1584360" cy="1490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sdx07"/>
          <p:cNvPicPr/>
          <p:nvPr/>
        </p:nvPicPr>
        <p:blipFill>
          <a:blip r:embed="rId3"/>
          <a:stretch/>
        </p:blipFill>
        <p:spPr>
          <a:xfrm>
            <a:off x="1979640" y="1628640"/>
            <a:ext cx="6553080" cy="150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719280" y="2238480"/>
            <a:ext cx="77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知道朱德同志为什么要在自己的扁担上写上“朱德扁担，不准乱拿”八个字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xxyw2bp69"/>
          <p:cNvPicPr/>
          <p:nvPr/>
        </p:nvPicPr>
        <p:blipFill>
          <a:blip r:embed="rId4"/>
          <a:srcRect l="0" t="28062" r="68830" b="54178"/>
          <a:stretch/>
        </p:blipFill>
        <p:spPr>
          <a:xfrm>
            <a:off x="-396720" y="907920"/>
            <a:ext cx="2047680" cy="20894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1547640" y="4005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9900"/>
                </a:solidFill>
                <a:latin typeface="Arial"/>
              </a:rPr>
              <a:t>是为了在扁担上作记号，表明这是朱德的扁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403280" y="51577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9900"/>
                </a:solidFill>
                <a:latin typeface="Arial"/>
              </a:rPr>
              <a:t>为了不让战士们再藏他的扁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2195640" y="4221000"/>
            <a:ext cx="144360" cy="1447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2050920" y="5373720"/>
            <a:ext cx="144720" cy="1443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44500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sdx07"/>
          <p:cNvPicPr/>
          <p:nvPr/>
        </p:nvPicPr>
        <p:blipFill>
          <a:blip r:embed="rId3"/>
          <a:stretch/>
        </p:blipFill>
        <p:spPr>
          <a:xfrm>
            <a:off x="1619280" y="1693800"/>
            <a:ext cx="6553080" cy="1508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2987640" y="1052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看看这个扁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5148360" y="2349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中宋"/>
              </a:rPr>
              <a:t>小组一起交流自己对朱德的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pic_27067202"/>
          <p:cNvPicPr/>
          <p:nvPr/>
        </p:nvPicPr>
        <p:blipFill>
          <a:blip r:embed="rId4"/>
          <a:stretch/>
        </p:blipFill>
        <p:spPr>
          <a:xfrm>
            <a:off x="5940360" y="4235400"/>
            <a:ext cx="2737080" cy="108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2006022316324935ab5 拷贝"/>
          <p:cNvPicPr/>
          <p:nvPr/>
        </p:nvPicPr>
        <p:blipFill>
          <a:blip r:embed="rId5"/>
          <a:srcRect l="0" t="0" r="50" b="20516"/>
          <a:stretch/>
        </p:blipFill>
        <p:spPr>
          <a:xfrm>
            <a:off x="971640" y="2421000"/>
            <a:ext cx="3960720" cy="28558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219" name="Text Box 11"/>
          <p:cNvSpPr/>
          <p:nvPr/>
        </p:nvSpPr>
        <p:spPr>
          <a:xfrm>
            <a:off x="1763640" y="450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1979640" y="4365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268360" y="407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2556000" y="400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2843280" y="386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3059280" y="36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3348000" y="342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56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sdx07"/>
          <p:cNvPicPr/>
          <p:nvPr/>
        </p:nvPicPr>
        <p:blipFill>
          <a:blip r:embed="rId3"/>
          <a:stretch/>
        </p:blipFill>
        <p:spPr>
          <a:xfrm>
            <a:off x="1979640" y="1628640"/>
            <a:ext cx="6553080" cy="1508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/>
          <p:cNvSpPr/>
          <p:nvPr/>
        </p:nvSpPr>
        <p:spPr>
          <a:xfrm>
            <a:off x="468360" y="1844640"/>
            <a:ext cx="1439640" cy="72072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谜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308720" y="2708280"/>
            <a:ext cx="18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扁担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50920" y="2708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扁担有什么用途呢</a:t>
            </a:r>
            <a:r>
              <a:rPr b="1" lang="en-US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898560" y="2995560"/>
            <a:ext cx="144360" cy="1443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1908000" y="4724280"/>
            <a:ext cx="57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今天我们来学习一篇发生在扁担身上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6" descr="图片2"/>
          <p:cNvPicPr/>
          <p:nvPr/>
        </p:nvPicPr>
        <p:blipFill>
          <a:blip r:embed="rId4"/>
          <a:stretch/>
        </p:blipFill>
        <p:spPr>
          <a:xfrm>
            <a:off x="2556000" y="1844640"/>
            <a:ext cx="4047840" cy="273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sdx07"/>
          <p:cNvPicPr/>
          <p:nvPr/>
        </p:nvPicPr>
        <p:blipFill>
          <a:blip r:embed="rId3"/>
          <a:stretch/>
        </p:blipFill>
        <p:spPr>
          <a:xfrm>
            <a:off x="1979640" y="1628640"/>
            <a:ext cx="6553080" cy="1508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971640" y="19162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中宋"/>
              </a:rPr>
              <a:t>你认为朱德同志是一个怎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979640" y="2921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朱德做事不怕困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116000" y="3573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我觉得朱德作为军长，带头挑粮，非常负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116000" y="4724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朱德很爱战士们，很爱部队，很乐意为部队做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图片6"/>
          <p:cNvPicPr/>
          <p:nvPr/>
        </p:nvPicPr>
        <p:blipFill>
          <a:blip r:embed="rId4"/>
          <a:stretch/>
        </p:blipFill>
        <p:spPr>
          <a:xfrm>
            <a:off x="468360" y="2637000"/>
            <a:ext cx="931680" cy="1339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ren01"/>
          <p:cNvPicPr/>
          <p:nvPr/>
        </p:nvPicPr>
        <p:blipFill>
          <a:blip r:embed="rId5"/>
          <a:stretch/>
        </p:blipFill>
        <p:spPr>
          <a:xfrm>
            <a:off x="7667640" y="2781360"/>
            <a:ext cx="1187280" cy="1695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035"/>
          <p:cNvPicPr/>
          <p:nvPr/>
        </p:nvPicPr>
        <p:blipFill>
          <a:blip r:embed="rId6"/>
          <a:stretch/>
        </p:blipFill>
        <p:spPr>
          <a:xfrm>
            <a:off x="611280" y="4653000"/>
            <a:ext cx="506160" cy="1057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sdx07"/>
          <p:cNvPicPr/>
          <p:nvPr/>
        </p:nvPicPr>
        <p:blipFill>
          <a:blip r:embed="rId3"/>
          <a:stretch/>
        </p:blipFill>
        <p:spPr>
          <a:xfrm>
            <a:off x="1979640" y="1773360"/>
            <a:ext cx="6553080" cy="1508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900000" y="227664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黑体"/>
                <a:ea typeface="黑体"/>
              </a:rPr>
              <a:t>1</a:t>
            </a:r>
            <a:r>
              <a:rPr b="0" lang="en-US" sz="3600" spc="-1" strike="noStrike">
                <a:solidFill>
                  <a:srgbClr val="663300"/>
                </a:solidFill>
                <a:latin typeface="宋体"/>
              </a:rPr>
              <a:t>.</a:t>
            </a:r>
            <a:r>
              <a:rPr b="0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把</a:t>
            </a:r>
            <a:r>
              <a:rPr b="0" lang="en-US" sz="3600" spc="-1" strike="noStrike">
                <a:solidFill>
                  <a:srgbClr val="6633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朱德的扁担</a:t>
            </a:r>
            <a:r>
              <a:rPr b="0" lang="en-US" sz="3600" spc="-1" strike="noStrike">
                <a:solidFill>
                  <a:srgbClr val="663300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这个故事讲给爸爸妈妈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900000" y="3716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黑体"/>
                <a:ea typeface="黑体"/>
              </a:rPr>
              <a:t>2</a:t>
            </a:r>
            <a:r>
              <a:rPr b="0" lang="en-US" sz="3600" spc="-1" strike="noStrike">
                <a:solidFill>
                  <a:srgbClr val="996633"/>
                </a:solidFill>
                <a:latin typeface="宋体"/>
              </a:rPr>
              <a:t>.</a:t>
            </a:r>
            <a:r>
              <a:rPr b="0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请阅读</a:t>
            </a:r>
            <a:r>
              <a:rPr b="0" lang="en-US" sz="3600" spc="-1" strike="noStrike">
                <a:solidFill>
                  <a:srgbClr val="996633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朱德的故事</a:t>
            </a:r>
            <a:r>
              <a:rPr b="0" lang="en-US" sz="3600" spc="-1" strike="noStrike">
                <a:solidFill>
                  <a:srgbClr val="996633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等课外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3924360" y="836640"/>
            <a:ext cx="165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43" name="Picture 8" descr="xuexiyongpin1_0152"/>
          <p:cNvPicPr/>
          <p:nvPr/>
        </p:nvPicPr>
        <p:blipFill>
          <a:blip r:embed="rId4"/>
          <a:stretch/>
        </p:blipFill>
        <p:spPr>
          <a:xfrm>
            <a:off x="5076720" y="4724280"/>
            <a:ext cx="1743120" cy="1376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0" y="64224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一、请填上合适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（     ）队伍 （      ）生活  （   ）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（     ）粮食 （      ）战士  （   ）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（     ）扁担 （      ）高山  （   ）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0" y="4016160"/>
            <a:ext cx="10072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二、给下面的偏旁组字再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马（ ）（   ）  木（ ）（   ） 人（  ）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广（ ）（   ）  土（ ）（   ） 户（  ）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0" y="24948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三、我会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一（    ）石头    一（    ）歌    一（    ）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一（    ）西瓜    一（    ）伞    一（    ）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一（    ）筷子    一（    ）鞋    一（    ）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一（    ）扁担    一（    ）毛竹  一（    ）粮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2826360"/>
            <a:ext cx="91440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四、我会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带领          粮食            穿着           扁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储备          根据地          戴着           草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坚守          队伍            藏起           斗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sdx07"/>
          <p:cNvPicPr/>
          <p:nvPr/>
        </p:nvPicPr>
        <p:blipFill>
          <a:blip r:embed="rId3"/>
          <a:stretch/>
        </p:blipFill>
        <p:spPr>
          <a:xfrm>
            <a:off x="1979640" y="1197000"/>
            <a:ext cx="6553080" cy="15084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1835280" y="1844640"/>
            <a:ext cx="5400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朱德的扁担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619280" y="3500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齐读课题，有什么疑问想提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wenhuayongpinyi1_0387"/>
          <p:cNvPicPr/>
          <p:nvPr/>
        </p:nvPicPr>
        <p:blipFill>
          <a:blip r:embed="rId4"/>
          <a:stretch/>
        </p:blipFill>
        <p:spPr>
          <a:xfrm>
            <a:off x="826920" y="3500280"/>
            <a:ext cx="735120" cy="735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971640" y="429264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.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朱德的扁担”这个故事发生在什么时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908000" y="544500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朱德用这个扁担来干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sdx07"/>
          <p:cNvPicPr/>
          <p:nvPr/>
        </p:nvPicPr>
        <p:blipFill>
          <a:blip r:embed="rId3"/>
          <a:stretch/>
        </p:blipFill>
        <p:spPr>
          <a:xfrm>
            <a:off x="1979640" y="1628640"/>
            <a:ext cx="6553080" cy="15084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3419640" y="1052640"/>
            <a:ext cx="280512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朱德简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1" name="Picture 7" descr="mmm2626a"/>
          <p:cNvPicPr/>
          <p:nvPr/>
        </p:nvPicPr>
        <p:blipFill>
          <a:blip r:embed="rId4"/>
          <a:stretch/>
        </p:blipFill>
        <p:spPr>
          <a:xfrm>
            <a:off x="684360" y="1989000"/>
            <a:ext cx="1644480" cy="21607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sp>
        <p:nvSpPr>
          <p:cNvPr id="72" name="Text Box 8"/>
          <p:cNvSpPr/>
          <p:nvPr/>
        </p:nvSpPr>
        <p:spPr>
          <a:xfrm>
            <a:off x="2627280" y="198900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朱德（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886~1976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）马克思主义者，无产阶级革命家，军事家，政治家；中国共产党、中国人民解放军和中华人民共和国的主要领导人，中国人民解放军和中华人民共和国的主要缔造者之一；中华人民共和国元帅，中华人民共和国全国人民代表大会常务委员会委员长（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959 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～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976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图片1 拷贝"/>
          <p:cNvPicPr/>
          <p:nvPr/>
        </p:nvPicPr>
        <p:blipFill>
          <a:blip r:embed="rId1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57120" y="2071800"/>
          <a:ext cx="8064720" cy="1382760"/>
        </p:xfrm>
        <a:graphic>
          <a:graphicData uri="http://schemas.openxmlformats.org/drawingml/2006/table">
            <a:tbl>
              <a:tblPr/>
              <a:tblGrid>
                <a:gridCol w="1976400"/>
                <a:gridCol w="2024280"/>
                <a:gridCol w="1928880"/>
                <a:gridCol w="2135160"/>
              </a:tblGrid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朱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达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冈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甩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16"/>
          <p:cNvSpPr/>
          <p:nvPr/>
        </p:nvSpPr>
        <p:spPr>
          <a:xfrm>
            <a:off x="357120" y="1500120"/>
            <a:ext cx="2014560" cy="5716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z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6286680" y="1500120"/>
            <a:ext cx="216036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shuǎ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4357800" y="1500120"/>
            <a:ext cx="194472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gā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2357280" y="1500120"/>
            <a:ext cx="201456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d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214200" y="35002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（姓朱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2071800" y="35002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（到达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3857760" y="34290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（井冈山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6119640" y="35002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（甩手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24"/>
          <p:cNvSpPr txBox="1"/>
          <p:nvPr/>
        </p:nvSpPr>
        <p:spPr>
          <a:xfrm>
            <a:off x="2484360" y="428760"/>
            <a:ext cx="28796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Picture 25" descr="图片2"/>
          <p:cNvPicPr/>
          <p:nvPr/>
        </p:nvPicPr>
        <p:blipFill>
          <a:blip r:embed="rId2"/>
          <a:stretch/>
        </p:blipFill>
        <p:spPr>
          <a:xfrm>
            <a:off x="285840" y="0"/>
            <a:ext cx="1164960" cy="1585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9"/>
          <p:cNvSpPr/>
          <p:nvPr/>
        </p:nvSpPr>
        <p:spPr>
          <a:xfrm>
            <a:off x="285840" y="4214880"/>
            <a:ext cx="201456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p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2286000" y="4214880"/>
            <a:ext cx="201456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j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9"/>
          <p:cNvSpPr/>
          <p:nvPr/>
        </p:nvSpPr>
        <p:spPr>
          <a:xfrm>
            <a:off x="285840" y="4786200"/>
            <a:ext cx="200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  <a:ea typeface="黑体"/>
              </a:rPr>
              <a:t>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0"/>
          <p:cNvSpPr/>
          <p:nvPr/>
        </p:nvSpPr>
        <p:spPr>
          <a:xfrm>
            <a:off x="2286000" y="4786200"/>
            <a:ext cx="20718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  <a:ea typeface="黑体"/>
              </a:rPr>
              <a:t>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1"/>
          <p:cNvSpPr/>
          <p:nvPr/>
        </p:nvSpPr>
        <p:spPr>
          <a:xfrm>
            <a:off x="0" y="614196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（一匹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2"/>
          <p:cNvSpPr/>
          <p:nvPr/>
        </p:nvSpPr>
        <p:spPr>
          <a:xfrm>
            <a:off x="2214720" y="6072120"/>
            <a:ext cx="257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（急忙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5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39640" y="2928960"/>
          <a:ext cx="8064720" cy="1311120"/>
        </p:xfrm>
        <a:graphic>
          <a:graphicData uri="http://schemas.openxmlformats.org/drawingml/2006/table">
            <a:tbl>
              <a:tblPr/>
              <a:tblGrid>
                <a:gridCol w="1976400"/>
                <a:gridCol w="1974960"/>
                <a:gridCol w="1978200"/>
                <a:gridCol w="2135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材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官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竹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防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15"/>
          <p:cNvSpPr/>
          <p:nvPr/>
        </p:nvSpPr>
        <p:spPr>
          <a:xfrm>
            <a:off x="539640" y="2349360"/>
            <a:ext cx="194328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c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6443640" y="2349360"/>
            <a:ext cx="216072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fá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4500720" y="2349360"/>
            <a:ext cx="194436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zh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484360" y="2349360"/>
            <a:ext cx="201456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gu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252360" y="4365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（木材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2268360" y="4365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（军官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4284720" y="43419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（竹子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6300720" y="43228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（防止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3"/>
          <p:cNvSpPr txBox="1"/>
          <p:nvPr/>
        </p:nvSpPr>
        <p:spPr>
          <a:xfrm>
            <a:off x="2484360" y="83664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3" name="Picture 24" descr="图片2"/>
          <p:cNvPicPr/>
          <p:nvPr/>
        </p:nvPicPr>
        <p:blipFill>
          <a:blip r:embed="rId3"/>
          <a:stretch/>
        </p:blipFill>
        <p:spPr>
          <a:xfrm>
            <a:off x="826920" y="765000"/>
            <a:ext cx="1165320" cy="1586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57168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iǎn    mì       fēng     suǒ      y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扁      密       封       锁       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í     fǎn    réng     g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题     返      仍         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ā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担心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àn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一担）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4"/>
          <p:cNvSpPr/>
          <p:nvPr/>
        </p:nvSpPr>
        <p:spPr>
          <a:xfrm flipH="1" flipV="1">
            <a:off x="1571760" y="5500800"/>
            <a:ext cx="1071360" cy="7142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7"/>
          <p:cNvSpPr/>
          <p:nvPr/>
        </p:nvSpPr>
        <p:spPr>
          <a:xfrm flipH="1">
            <a:off x="1499760" y="4857840"/>
            <a:ext cx="1071720" cy="6429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sdx07"/>
          <p:cNvPicPr/>
          <p:nvPr/>
        </p:nvPicPr>
        <p:blipFill>
          <a:blip r:embed="rId3"/>
          <a:stretch/>
        </p:blipFill>
        <p:spPr>
          <a:xfrm>
            <a:off x="1979640" y="1197000"/>
            <a:ext cx="6553080" cy="150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042920" y="1484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读课文并思考：“朱德的扁担”这个故事发生在什么时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187280" y="285264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928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年，朱德同志带领一支队伍到井冈山跟毛泽东同志会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1619280" y="3139920"/>
            <a:ext cx="142920" cy="144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763640" y="4941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一想井冈山会师是什么样的情景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692360" y="429264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说你对井冈山的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3"/>
          <p:cNvGrpSpPr/>
          <p:nvPr/>
        </p:nvGrpSpPr>
        <p:grpSpPr>
          <a:xfrm>
            <a:off x="499320" y="4300560"/>
            <a:ext cx="1083240" cy="979560"/>
            <a:chOff x="499320" y="4300560"/>
            <a:chExt cx="1083240" cy="979560"/>
          </a:xfrm>
        </p:grpSpPr>
        <p:pic>
          <p:nvPicPr>
            <p:cNvPr id="116" name="Picture 14" descr="{4A597BF2-C408-4DA7-B4C3-9226DBD52570}"/>
            <p:cNvPicPr/>
            <p:nvPr/>
          </p:nvPicPr>
          <p:blipFill>
            <a:blip r:embed="rId4"/>
            <a:stretch/>
          </p:blipFill>
          <p:spPr>
            <a:xfrm rot="20484000">
              <a:off x="610920" y="4365360"/>
              <a:ext cx="536760" cy="7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5" descr="{07C95A7F-97FD-4AC2-948F-9BEED9AEB2BE}"/>
            <p:cNvPicPr/>
            <p:nvPr/>
          </p:nvPicPr>
          <p:blipFill>
            <a:blip r:embed="rId5"/>
            <a:stretch/>
          </p:blipFill>
          <p:spPr>
            <a:xfrm rot="981000">
              <a:off x="890280" y="4365360"/>
              <a:ext cx="584640" cy="84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Line 16"/>
          <p:cNvSpPr/>
          <p:nvPr/>
        </p:nvSpPr>
        <p:spPr>
          <a:xfrm>
            <a:off x="2124000" y="4005360"/>
            <a:ext cx="1513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6372360" y="4005360"/>
            <a:ext cx="1009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news_2006813195533"/>
          <p:cNvPicPr/>
          <p:nvPr/>
        </p:nvPicPr>
        <p:blipFill>
          <a:blip r:embed="rId1"/>
          <a:srcRect l="63287" t="44725" r="33622" b="4377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图片1 拷贝"/>
          <p:cNvPicPr/>
          <p:nvPr/>
        </p:nvPicPr>
        <p:blipFill>
          <a:blip r:embed="rId2"/>
          <a:stretch/>
        </p:blipFill>
        <p:spPr>
          <a:xfrm>
            <a:off x="179280" y="5373720"/>
            <a:ext cx="8713800" cy="1150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sdx07"/>
          <p:cNvPicPr/>
          <p:nvPr/>
        </p:nvPicPr>
        <p:blipFill>
          <a:blip r:embed="rId3"/>
          <a:stretch/>
        </p:blipFill>
        <p:spPr>
          <a:xfrm>
            <a:off x="2122560" y="1622520"/>
            <a:ext cx="6553080" cy="15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200610561679"/>
          <p:cNvPicPr/>
          <p:nvPr/>
        </p:nvPicPr>
        <p:blipFill>
          <a:blip r:embed="rId4"/>
          <a:stretch/>
        </p:blipFill>
        <p:spPr>
          <a:xfrm>
            <a:off x="2922480" y="2276640"/>
            <a:ext cx="5249880" cy="324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4" name="Picture 8" descr="1305502"/>
          <p:cNvPicPr/>
          <p:nvPr/>
        </p:nvPicPr>
        <p:blipFill>
          <a:blip r:embed="rId5"/>
          <a:stretch/>
        </p:blipFill>
        <p:spPr>
          <a:xfrm>
            <a:off x="2916360" y="2276640"/>
            <a:ext cx="5256000" cy="336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9"/>
          <p:cNvSpPr/>
          <p:nvPr/>
        </p:nvSpPr>
        <p:spPr>
          <a:xfrm>
            <a:off x="395280" y="3716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金秋井冈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95280" y="3068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井冈山旧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95280" y="234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井冈山的风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324000" y="2565360"/>
            <a:ext cx="72720" cy="71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324000" y="3284640"/>
            <a:ext cx="72720" cy="71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324000" y="3933720"/>
            <a:ext cx="72720" cy="71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5"/>
          <p:cNvSpPr txBox="1"/>
          <p:nvPr/>
        </p:nvSpPr>
        <p:spPr>
          <a:xfrm>
            <a:off x="3780000" y="1011240"/>
            <a:ext cx="30970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走进井冈山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Picture 17" descr="5910980420051115181600_4"/>
          <p:cNvPicPr/>
          <p:nvPr/>
        </p:nvPicPr>
        <p:blipFill>
          <a:blip r:embed="rId6"/>
          <a:stretch/>
        </p:blipFill>
        <p:spPr>
          <a:xfrm>
            <a:off x="2916360" y="2276640"/>
            <a:ext cx="5257800" cy="3384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checke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鲍春华</cp:lastModifiedBy>
  <dcterms:modified xsi:type="dcterms:W3CDTF">2015-04-01T08:18:17Z</dcterms:modified>
  <cp:revision>129</cp:revision>
  <dc:subject/>
  <dc:title>幻灯片 1</dc:title>
</cp:coreProperties>
</file>